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88BD-8166-46DC-B35C-452870278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0C5F-2A02-494D-A244-27FB63F7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7EB7-7AAC-4F1F-A649-59DC871D8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184B-558F-48C5-AF48-0DF942A57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FB43-DA0C-401E-B6DB-25538C65E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AA77C-EB90-4EFC-8FEB-BF67433F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A451-30ED-4224-8E77-DBA688E6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6F512-49D6-4AF0-A7D1-8DAA227D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D099-939D-459E-8FA9-8A1AC7F8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4FB6-BEB9-426E-94D2-175B5F33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88E5-F25C-4F4B-980B-409D8AF7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0211-4792-425C-97C2-2204B595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B548D-A067-4228-B568-CEA5E986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0B2E6-279F-4635-8762-AEA91A02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CC60-2A2F-4119-BCEF-22ED0D62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795A-460E-4C07-A349-F82880430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8B45-18F8-420B-AD8C-9F9BC3763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C0426-F0F0-4733-8241-229AC3BF4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233DE-09F0-490E-80E6-7E9CB740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A1552-5540-4B7E-8D0E-A7730C27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962A9-20EF-4B9F-9E84-6AF7AA16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02DBA-6A50-4871-8E9F-92234C36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61BD-D8C1-4FEC-8E7F-FE912CE1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04EBB-5794-48F2-BFBF-0315873C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1851C-836C-4D60-B9F0-F8E0E3F5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1237C-F518-420E-923C-FAB58732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3946F-6341-4F01-A142-BA097861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BEC30-B1B5-4F99-8E88-5C85D755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8DC1D-C235-4D63-9221-985E1CA1A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91C8E-1123-45E1-88E1-D6AC8A297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789D4-7AC2-407D-A83B-2CC4BF6BA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6C489-9A1B-4E36-9EEB-FB23B3E4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C1599-DE24-425E-9819-0411C076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9791-95ED-43F6-94A4-8938FFF4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FAB7F-2CFD-487C-9168-BEA21EB2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7F9B8-D748-4EB6-A3F2-42AF7B5B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F5E18-EC1C-48B3-8320-B4BD6335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0D1CB-A318-4B99-8155-CDA7A776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467A3-48C9-4D85-9C65-BFB3425E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08B34-D484-4C08-9D2D-BF503F81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AE237-4157-4D12-AA1D-C75A249B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C41D4-7A8A-4A00-A81E-183C81C43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DF960-F11B-4B25-878B-C9922EA8D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9E0B1-8D44-4FF3-AB15-4CAE82E25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6FAF-7C49-49EC-8295-94D1C99F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5ECFE-B455-4E86-8844-C80AC95C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7EE6B-ED99-45D7-9B7D-C4A7849A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0B88A-1E7E-48FA-B3FB-9EB92FC9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1738A-6725-44BD-8868-5A0EA0AB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3D7DF-87AB-41B3-8775-358274F7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A56B0-170E-4AF9-81D5-365DC7E3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371CE-8390-40D4-BDA8-4ADAF22E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87B58-79BC-4482-88B5-3A143320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B33A5-4DC7-4BFF-9B95-11FCA684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5B16A-3F6C-4512-8254-EC7DA2428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B07D-2A94-40CD-AD79-B9D0B05B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33191-1E86-469C-BBAB-CE2828CF9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6856F-8390-46F2-BABC-D520A0DC4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9E119-5ADA-463C-9FA2-8089CC65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EC30A-E2F9-4CB3-91BF-D64DCBDC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49807-0696-4E54-B1E6-E6AD8482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8B219-D89D-4F46-9578-F5E8D2C6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B65C9-4607-4CA5-B171-1F602FF8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0CE04-FF84-4D97-9DDC-F99F83CD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667A4-0AFF-48AF-8D6B-0306EE6B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ABF25-9D27-4DD5-9006-FA4C1812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0B53-4957-4DD7-8EDE-E284814D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81BCD-6D22-46DA-A56E-695264FB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049D9-834E-4897-A388-7F5CEE644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CCCA7-0AEE-4F68-9225-066379B62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4620B-24FC-4E9D-9B38-05D81D67F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E2399-DBA0-4739-8820-F9AA7B11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246F6-368E-4780-AC56-B3D8AE54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1EB63-FA2D-47B6-8310-A3EFBDA9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DB455-C8CC-42FD-BFC6-8FEE6651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CE054-CC7E-4C7E-ADD1-4F038BD5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86465-BA78-41BC-A045-A79FD1CC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16E3-C142-4B77-AF3C-4C337797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E9D15-3E0B-4AAC-8C96-2C8C795D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0D8CC-15BA-40E8-A98E-E766B277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7BEC7-E893-4534-BC3D-3F756026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0FE16-E210-4E3C-921E-536227307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A78D7-6C78-4805-B2C2-20405808E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5C9D-48BA-4402-B9DE-DB498B82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BB29-7CD4-477D-A1C0-07DB20322922}" type="slidenum">
              <a:rPr b="0" lang="en-CA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E940-5753-4AD3-8761-CE11C02CD7F6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F953-683D-47DC-845F-6C78E3E5038A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F8BF-8AA3-490D-8CCC-5CB5EB4BBCC0}" type="slidenum">
              <a:rPr b="0" lang="en-CA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2D67-2CDF-47BC-895F-473BBF4780E2}" type="slidenum">
              <a:rPr b="0" lang="en-CA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9197-6BD4-4844-A6C8-0DD83FAFDE68}" type="slidenum">
              <a:rPr b="0" lang="en-CA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2799-E7C3-4496-86D1-9B7115143108}" type="slidenum">
              <a:rPr b="0" lang="en-CA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09480" y="334800"/>
            <a:ext cx="7772400" cy="26640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2"/>
          <a:stretch/>
        </p:blipFill>
        <p:spPr>
          <a:xfrm>
            <a:off x="1403280" y="2997360"/>
            <a:ext cx="6264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orbel"/>
              </a:rPr>
              <a:t>Reas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Lotteries are a waste of mone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Playing the lottery is very addictiv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Lotteries are not really a great chance to make mone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9000"/>
          </a:bodyPr>
          <a:p>
            <a:pPr marL="433440" indent="-3157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Corbel"/>
              </a:rPr>
              <a:t>Reason #1:</a:t>
            </a:r>
            <a:r>
              <a:rPr b="1" lang="en-CA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CA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CA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CA" sz="3000" spc="-1" strike="noStrike">
                <a:solidFill>
                  <a:srgbClr val="000000"/>
                </a:solidFill>
                <a:latin typeface="Corbel"/>
              </a:rPr>
              <a:t>Supporting Detail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Corbel"/>
              </a:rPr>
              <a:t>Reasons + Supporting Details: </a:t>
            </a:r>
            <a:br>
              <a:rPr sz="3000"/>
            </a:br>
            <a:r>
              <a:rPr b="0" lang="en-CA" sz="3600" spc="-1" strike="noStrike">
                <a:solidFill>
                  <a:srgbClr val="000000"/>
                </a:solidFill>
                <a:latin typeface="Corbel"/>
              </a:rPr>
              <a:t>Lotteries are a waste of money.  Every time we buy a lottery ticket, we have less money to buy things we need such as food or clothing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Cloud 3"/>
          <p:cNvSpPr/>
          <p:nvPr/>
        </p:nvSpPr>
        <p:spPr>
          <a:xfrm>
            <a:off x="23760" y="2135160"/>
            <a:ext cx="2879640" cy="23036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0ad00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TextBox 4"/>
          <p:cNvSpPr/>
          <p:nvPr/>
        </p:nvSpPr>
        <p:spPr>
          <a:xfrm>
            <a:off x="455760" y="2422440"/>
            <a:ext cx="201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rbel"/>
              </a:rPr>
              <a:t>Lotteries are a waste of mone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334" name="Straight Arrow Connector 6"/>
          <p:cNvCxnSpPr/>
          <p:nvPr/>
        </p:nvCxnSpPr>
        <p:spPr>
          <a:xfrm>
            <a:off x="3276720" y="3760560"/>
            <a:ext cx="1224720" cy="1080"/>
          </a:xfrm>
          <a:prstGeom prst="straightConnector1">
            <a:avLst/>
          </a:prstGeom>
          <a:ln cap="rnd" w="6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5" name="Cloud 8"/>
          <p:cNvSpPr/>
          <p:nvPr/>
        </p:nvSpPr>
        <p:spPr>
          <a:xfrm>
            <a:off x="4829040" y="1976400"/>
            <a:ext cx="4104000" cy="262116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6bb76d"/>
          </a:solidFill>
          <a:ln w="47880">
            <a:solidFill>
              <a:srgbClr val="4d86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TextBox 9"/>
          <p:cNvSpPr/>
          <p:nvPr/>
        </p:nvSpPr>
        <p:spPr>
          <a:xfrm>
            <a:off x="5543640" y="257652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Less money to buy thing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orbel"/>
              </a:rPr>
              <a:t>Reason #2:</a:t>
            </a:r>
            <a:r>
              <a:rPr b="1" lang="en-CA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orbel"/>
              </a:rPr>
              <a:t>Supporting Detai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orbel"/>
              </a:rPr>
              <a:t>Reasons + Supporting Detai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Playing the lottery is severely addictive.  When you buy a lottery ticket and don’t win, we may want to buy more and more ticket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Cloud 3"/>
          <p:cNvSpPr/>
          <p:nvPr/>
        </p:nvSpPr>
        <p:spPr>
          <a:xfrm>
            <a:off x="755640" y="2492280"/>
            <a:ext cx="3024360" cy="115272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0ad00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TextBox 4"/>
          <p:cNvSpPr/>
          <p:nvPr/>
        </p:nvSpPr>
        <p:spPr>
          <a:xfrm>
            <a:off x="984240" y="2806560"/>
            <a:ext cx="30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rbel"/>
              </a:rPr>
              <a:t>Lottery Addic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Cloud 5"/>
          <p:cNvSpPr/>
          <p:nvPr/>
        </p:nvSpPr>
        <p:spPr>
          <a:xfrm>
            <a:off x="5364000" y="2492280"/>
            <a:ext cx="3311640" cy="158436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0ad00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TextBox 6"/>
          <p:cNvSpPr/>
          <p:nvPr/>
        </p:nvSpPr>
        <p:spPr>
          <a:xfrm>
            <a:off x="5796000" y="268452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rbel"/>
              </a:rPr>
              <a:t>Haven’t won yet….Need more ticket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343" name="Straight Arrow Connector 8"/>
          <p:cNvCxnSpPr/>
          <p:nvPr/>
        </p:nvCxnSpPr>
        <p:spPr>
          <a:xfrm>
            <a:off x="3924360" y="3284280"/>
            <a:ext cx="1080000" cy="1080"/>
          </a:xfrm>
          <a:prstGeom prst="straightConnector1">
            <a:avLst/>
          </a:prstGeom>
          <a:ln cap="rnd" w="64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9000"/>
          </a:bodyPr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orbel"/>
              </a:rPr>
              <a:t>Reason #3</a:t>
            </a:r>
            <a:r>
              <a:rPr b="1" lang="en-CA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orbel"/>
              </a:rPr>
              <a:t>    Supporting Detai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orbel"/>
              </a:rPr>
              <a:t>Reasons + Supporting Detai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Lotteries are not really a good chance to make money.  We can’t use our skills or abilities to win the lottery.  The only thing we can depend on is luck</a:t>
            </a:r>
            <a:r>
              <a:rPr b="1" lang="en-CA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Cloud 3"/>
          <p:cNvSpPr/>
          <p:nvPr/>
        </p:nvSpPr>
        <p:spPr>
          <a:xfrm>
            <a:off x="250920" y="2421000"/>
            <a:ext cx="3168720" cy="151272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0ad00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TextBox 4"/>
          <p:cNvSpPr/>
          <p:nvPr/>
        </p:nvSpPr>
        <p:spPr>
          <a:xfrm>
            <a:off x="1042920" y="2576520"/>
            <a:ext cx="20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rbel"/>
              </a:rPr>
              <a:t>Not a good chance to make mone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Cloud 5"/>
          <p:cNvSpPr/>
          <p:nvPr/>
        </p:nvSpPr>
        <p:spPr>
          <a:xfrm>
            <a:off x="5076720" y="2421000"/>
            <a:ext cx="3743280" cy="151272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0ad00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TextBox 6"/>
          <p:cNvSpPr/>
          <p:nvPr/>
        </p:nvSpPr>
        <p:spPr>
          <a:xfrm>
            <a:off x="5508720" y="278136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rbel"/>
              </a:rPr>
              <a:t>Depends on luck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350" name="Straight Arrow Connector 8"/>
          <p:cNvCxnSpPr/>
          <p:nvPr/>
        </p:nvCxnSpPr>
        <p:spPr>
          <a:xfrm>
            <a:off x="3564000" y="3176280"/>
            <a:ext cx="1224720" cy="1080"/>
          </a:xfrm>
          <a:prstGeom prst="straightConnector1">
            <a:avLst/>
          </a:prstGeom>
          <a:ln w="478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6000"/>
          </a:bodyPr>
          <a:p>
            <a:pPr marL="420480" indent="-3060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0000"/>
                </a:solidFill>
                <a:latin typeface="Corbel"/>
              </a:rPr>
              <a:t>Firstly, in my opinion </a:t>
            </a:r>
            <a:r>
              <a:rPr b="0" lang="en-CA" sz="3000" spc="-1" strike="noStrike">
                <a:solidFill>
                  <a:srgbClr val="000000"/>
                </a:solidFill>
                <a:latin typeface="Corbel"/>
              </a:rPr>
              <a:t>Lotteries are a waste of money.  Every time we buy a lottery ticket, we have less money to buy things we need such as food or clothing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0000"/>
                </a:solidFill>
                <a:latin typeface="Corbel"/>
              </a:rPr>
              <a:t>In addition, I think </a:t>
            </a:r>
            <a:r>
              <a:rPr b="0" lang="en-CA" sz="3000" spc="-1" strike="noStrike">
                <a:solidFill>
                  <a:srgbClr val="000000"/>
                </a:solidFill>
                <a:latin typeface="Corbel"/>
              </a:rPr>
              <a:t>Playing the lottery is severely addictive.  When you buy a lottery ticket and don’t win, we may want to buy more and more ticket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0000"/>
                </a:solidFill>
                <a:latin typeface="Corbel"/>
              </a:rPr>
              <a:t>Finally, in my point of view</a:t>
            </a:r>
            <a:r>
              <a:rPr b="0" lang="en-CA" sz="3000" spc="-1" strike="noStrike">
                <a:solidFill>
                  <a:srgbClr val="000000"/>
                </a:solidFill>
                <a:latin typeface="Corbel"/>
              </a:rPr>
              <a:t>, Lotteries are not really a good chance to make money.  We can’t use our skills or abilities to win the lottery.  The only thing we can depend on is luck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0000"/>
                </a:solidFill>
                <a:latin typeface="Corbel"/>
              </a:rPr>
              <a:t>To sum up, for these reasons I believe that banning the lottery is a good idea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0000"/>
                </a:solidFill>
                <a:latin typeface="Corbel"/>
              </a:rPr>
              <a:t>An Opinion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orbel"/>
              </a:rPr>
              <a:t>A thought or belief about something or someone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Take a stand on a given topic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Have an opin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Choose to either </a:t>
            </a:r>
            <a:r>
              <a:rPr b="1" lang="en-CA" sz="3200" spc="-1" strike="noStrike">
                <a:solidFill>
                  <a:srgbClr val="000000"/>
                </a:solidFill>
                <a:latin typeface="Corbel"/>
              </a:rPr>
              <a:t>AGREE or DISAGREE</a:t>
            </a: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 with the statement or topic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9000"/>
          </a:bodyPr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orbel"/>
              </a:rPr>
              <a:t>Topic Sentence- </a:t>
            </a: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Showing whether you agree or disagree with the topic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orbel"/>
              </a:rPr>
              <a:t>Reasons and Supporting Detail- </a:t>
            </a: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examples or evidence to show your agreement or disagree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orbel"/>
              </a:rPr>
              <a:t>A Concluding Statement- </a:t>
            </a: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Summarizing the main reasons or restating the topic sentence in different word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For the introduction/topic sentenc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rbel"/>
              </a:rPr>
              <a:t>I agree/disagree with….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rbel"/>
              </a:rPr>
              <a:t>I agree/disagree that….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rbel"/>
              </a:rPr>
              <a:t>I am for/against the idea that…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rbel"/>
              </a:rPr>
              <a:t>There are….reasons why….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For the reasons (Transition Signals, Sentence Connectors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The first (second, third) reason is…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Another reason i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First (Firstly), Second (Secondly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Furthermore, In Addi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For the conclus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In Conclus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In Summar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To sum up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To conclud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Sample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The Topic: </a:t>
            </a:r>
            <a:r>
              <a:rPr b="1" lang="en-CA" sz="3200" spc="-1" strike="noStrike">
                <a:solidFill>
                  <a:srgbClr val="000000"/>
                </a:solidFill>
                <a:latin typeface="Corbel"/>
              </a:rPr>
              <a:t>The Lottery Should be Bann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I completely agree that all lotteries should be banned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orbel"/>
              </a:rPr>
              <a:t>Reas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Cloud 3"/>
          <p:cNvSpPr/>
          <p:nvPr/>
        </p:nvSpPr>
        <p:spPr>
          <a:xfrm>
            <a:off x="3564000" y="2637000"/>
            <a:ext cx="2952720" cy="151272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0ad00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Cloud 4"/>
          <p:cNvSpPr/>
          <p:nvPr/>
        </p:nvSpPr>
        <p:spPr>
          <a:xfrm>
            <a:off x="5724360" y="4508640"/>
            <a:ext cx="2951280" cy="151272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0ad00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Cloud 5"/>
          <p:cNvSpPr/>
          <p:nvPr/>
        </p:nvSpPr>
        <p:spPr>
          <a:xfrm>
            <a:off x="758880" y="4941720"/>
            <a:ext cx="2951280" cy="15116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0ad00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TextBox 6"/>
          <p:cNvSpPr/>
          <p:nvPr/>
        </p:nvSpPr>
        <p:spPr>
          <a:xfrm>
            <a:off x="4176720" y="2916360"/>
            <a:ext cx="172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rbel"/>
              </a:rPr>
              <a:t>Waste of Mone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TextBox 7"/>
          <p:cNvSpPr/>
          <p:nvPr/>
        </p:nvSpPr>
        <p:spPr>
          <a:xfrm>
            <a:off x="6300720" y="4788000"/>
            <a:ext cx="21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rbel"/>
              </a:rPr>
              <a:t>Lottery Addic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TextBox 8"/>
          <p:cNvSpPr/>
          <p:nvPr/>
        </p:nvSpPr>
        <p:spPr>
          <a:xfrm>
            <a:off x="1117440" y="5265720"/>
            <a:ext cx="223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rbel"/>
              </a:rPr>
              <a:t>Not great odds to make mone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13:12:01Z</dcterms:created>
  <dc:creator>Jason</dc:creator>
  <dc:description/>
  <dc:language>en-US</dc:language>
  <cp:lastModifiedBy>Jason</cp:lastModifiedBy>
  <dcterms:modified xsi:type="dcterms:W3CDTF">2011-04-07T14:11:56Z</dcterms:modified>
  <cp:revision>5</cp:revision>
  <dc:subject/>
  <dc:title>Unit 2- Developing Writing Skills  4.1 Writing Opinion/Persuasive Pieces</dc:title>
</cp:coreProperties>
</file>